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DCE-EE21-4A62-864E-F1F3B937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F02B-2887-4B21-8403-C8E0E5B5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A30-7DF3-45B7-B062-FE6B73C0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03F-63F8-4549-A9E2-CCCD0169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0746-51CC-4124-88A2-177C5B60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292F-05D0-45B6-A3A5-2AD20163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4A51-7F94-49FE-A25E-D4A12C15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0268-CAD6-4995-B39A-E47C0559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EE4E-B27F-4524-BD21-86E639C2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C5B3-4C14-44AB-8CCF-CFA9BF11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C360-FB27-4386-A411-5CD168F3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6C7-0FCC-42D6-A0AF-FF1AB76C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42BB-E27D-417A-954D-EF488000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A362-AACA-4580-8FAA-BA1832DB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80BF-0874-4C6A-A5B2-9423DBCC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B928-56D8-49DC-A2B6-1E3F7BBB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2307-F4C6-4942-BC09-1595DEDD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511-62BE-4BB2-8B43-6CCF2A65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B97-1F60-4394-A264-46BEABF9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4CC-0873-4549-87DB-FFBFA8A5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94D-A187-4E5A-B206-B978F46F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15E-33A2-420D-8F93-70C74055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2145-481D-475A-8ECC-4DEAEAEA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A5E-2F48-4C14-B907-AD47C1EC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83CC-D03F-4823-B0A4-AC633427737A}" type="slidenum">
              <a:rPr b="0" lang="sr-Latn-R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F57A-DD01-4F0D-B107-33B26E45F0DF}" type="slidenum">
              <a:rPr b="0" lang="sr-Latn-R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1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6000" spc="-1" strike="noStrike">
                <a:solidFill>
                  <a:srgbClr val="2f5897"/>
                </a:solidFill>
                <a:latin typeface="Palatino Linotype"/>
              </a:rPr>
              <a:t>Површина </a:t>
            </a:r>
            <a:br>
              <a:rPr sz="6000"/>
            </a:br>
            <a:r>
              <a:rPr b="1" lang="sr-RS" sz="6000" spc="-1" strike="noStrike">
                <a:solidFill>
                  <a:srgbClr val="2f5897"/>
                </a:solidFill>
                <a:latin typeface="Palatino Linotype"/>
              </a:rPr>
              <a:t>паралелограма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285880"/>
            <a:ext cx="6400800" cy="8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00000"/>
                </a:solidFill>
                <a:latin typeface="Century Gothic"/>
              </a:rPr>
              <a:t>- п</a:t>
            </a:r>
            <a:r>
              <a:rPr b="1" lang="en-US" sz="3600" spc="-1" strike="noStrike">
                <a:solidFill>
                  <a:srgbClr val="c00000"/>
                </a:solidFill>
                <a:latin typeface="Century Gothic"/>
              </a:rPr>
              <a:t>роблемска настава -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Решење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0" name="Picture 4" descr="paralelogram_12.png"/>
          <p:cNvPicPr/>
          <p:nvPr/>
        </p:nvPicPr>
        <p:blipFill>
          <a:blip r:embed="rId1"/>
          <a:stretch/>
        </p:blipFill>
        <p:spPr>
          <a:xfrm>
            <a:off x="2643120" y="3929040"/>
            <a:ext cx="4172040" cy="195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paralelogram_13.png"/>
          <p:cNvPicPr/>
          <p:nvPr/>
        </p:nvPicPr>
        <p:blipFill>
          <a:blip r:embed="rId2"/>
          <a:stretch/>
        </p:blipFill>
        <p:spPr>
          <a:xfrm>
            <a:off x="1428840" y="1857240"/>
            <a:ext cx="5562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Решење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2000160"/>
            <a:ext cx="822960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4" name="Picture 6" descr="paralelogram_24.png"/>
          <p:cNvPicPr/>
          <p:nvPr/>
        </p:nvPicPr>
        <p:blipFill>
          <a:blip r:embed="rId1"/>
          <a:stretch/>
        </p:blipFill>
        <p:spPr>
          <a:xfrm>
            <a:off x="6072120" y="2214720"/>
            <a:ext cx="2619360" cy="3214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paralelogram_25.png"/>
          <p:cNvPicPr/>
          <p:nvPr/>
        </p:nvPicPr>
        <p:blipFill>
          <a:blip r:embed="rId2"/>
          <a:stretch/>
        </p:blipFill>
        <p:spPr>
          <a:xfrm>
            <a:off x="357120" y="2214720"/>
            <a:ext cx="52578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5400" spc="-1" strike="noStrike" u="sng">
                <a:solidFill>
                  <a:srgbClr val="2f5897"/>
                </a:solidFill>
                <a:uFillTx/>
                <a:latin typeface="Palatino Linotype"/>
              </a:rPr>
              <a:t>Проблем 1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329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Да ли постоји фигура која има једнаку површину са датим квадратом? Ако постоји(е) нацртај је (их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3" name="Picture 5" descr="uvod povrsina paralelograma_1.png"/>
          <p:cNvPicPr/>
          <p:nvPr/>
        </p:nvPicPr>
        <p:blipFill>
          <a:blip r:embed="rId1"/>
          <a:stretch/>
        </p:blipFill>
        <p:spPr>
          <a:xfrm>
            <a:off x="3000240" y="2643120"/>
            <a:ext cx="25304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Нека реш</a:t>
            </a: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e</a:t>
            </a: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ња</a:t>
            </a: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5" name="Picture 6" descr="uvod povrsina paralelograma_11.png"/>
          <p:cNvPicPr/>
          <p:nvPr/>
        </p:nvPicPr>
        <p:blipFill>
          <a:blip r:embed="rId1"/>
          <a:stretch/>
        </p:blipFill>
        <p:spPr>
          <a:xfrm>
            <a:off x="5786280" y="2143080"/>
            <a:ext cx="2535480" cy="3548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uvod povrsina paralelograma_12.png"/>
          <p:cNvPicPr/>
          <p:nvPr/>
        </p:nvPicPr>
        <p:blipFill>
          <a:blip r:embed="rId2"/>
          <a:stretch/>
        </p:blipFill>
        <p:spPr>
          <a:xfrm>
            <a:off x="285840" y="3143160"/>
            <a:ext cx="466704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5400" spc="-1" strike="noStrike" u="sng">
                <a:solidFill>
                  <a:srgbClr val="2f5897"/>
                </a:solidFill>
                <a:uFillTx/>
                <a:latin typeface="Palatino Linotype"/>
              </a:rPr>
              <a:t>Проблем 2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Да ли можеш да одредиш површину следећих фигур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9" name="Picture 4" descr="uvod povrsina paralelograma_21.png"/>
          <p:cNvPicPr/>
          <p:nvPr/>
        </p:nvPicPr>
        <p:blipFill>
          <a:blip r:embed="rId1"/>
          <a:stretch/>
        </p:blipFill>
        <p:spPr>
          <a:xfrm>
            <a:off x="2071800" y="3071880"/>
            <a:ext cx="518148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5400" spc="-1" strike="noStrike" u="sng">
                <a:solidFill>
                  <a:srgbClr val="2f5897"/>
                </a:solidFill>
                <a:uFillTx/>
                <a:latin typeface="Palatino Linotype"/>
              </a:rPr>
              <a:t>Проблем 2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Да ли можеш да одредиш површину следећих фигур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2" name="Picture 5" descr="uvod povrsina paralelograma_22.png"/>
          <p:cNvPicPr/>
          <p:nvPr/>
        </p:nvPicPr>
        <p:blipFill>
          <a:blip r:embed="rId1"/>
          <a:stretch/>
        </p:blipFill>
        <p:spPr>
          <a:xfrm>
            <a:off x="2111400" y="2660760"/>
            <a:ext cx="492120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Решење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04" name="Content Placeholder 3" descr="uvod povrsina paralelograma_25.png"/>
          <p:cNvPicPr/>
          <p:nvPr/>
        </p:nvPicPr>
        <p:blipFill>
          <a:blip r:embed="rId1"/>
          <a:stretch/>
        </p:blipFill>
        <p:spPr>
          <a:xfrm>
            <a:off x="431640" y="2714760"/>
            <a:ext cx="1503360" cy="1519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uvod povrsina paralelograma_26.png"/>
          <p:cNvPicPr/>
          <p:nvPr/>
        </p:nvPicPr>
        <p:blipFill>
          <a:blip r:embed="rId2"/>
          <a:stretch/>
        </p:blipFill>
        <p:spPr>
          <a:xfrm>
            <a:off x="2571840" y="2714760"/>
            <a:ext cx="1508040" cy="1460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uvod povrsina paralelograma_27.png"/>
          <p:cNvPicPr/>
          <p:nvPr/>
        </p:nvPicPr>
        <p:blipFill>
          <a:blip r:embed="rId3"/>
          <a:stretch/>
        </p:blipFill>
        <p:spPr>
          <a:xfrm>
            <a:off x="4714920" y="2714760"/>
            <a:ext cx="157176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uvod povrsina paralelograma_28.png"/>
          <p:cNvPicPr/>
          <p:nvPr/>
        </p:nvPicPr>
        <p:blipFill>
          <a:blip r:embed="rId4"/>
          <a:stretch/>
        </p:blipFill>
        <p:spPr>
          <a:xfrm>
            <a:off x="6858000" y="2714760"/>
            <a:ext cx="13636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5400" spc="-1" strike="noStrike" u="sng">
                <a:solidFill>
                  <a:srgbClr val="2f5897"/>
                </a:solidFill>
                <a:uFillTx/>
                <a:latin typeface="Palatino Linotype"/>
              </a:rPr>
              <a:t>Проблем 3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Да ли можеш да одредиш површину следећих фигура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5" descr="uvod povrsina paralelograma_23.png"/>
          <p:cNvPicPr/>
          <p:nvPr/>
        </p:nvPicPr>
        <p:blipFill>
          <a:blip r:embed="rId1"/>
          <a:stretch/>
        </p:blipFill>
        <p:spPr>
          <a:xfrm>
            <a:off x="2428920" y="2500200"/>
            <a:ext cx="4419720" cy="178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uvod povrsina paralelograma_24.png"/>
          <p:cNvPicPr/>
          <p:nvPr/>
        </p:nvPicPr>
        <p:blipFill>
          <a:blip r:embed="rId2"/>
          <a:stretch/>
        </p:blipFill>
        <p:spPr>
          <a:xfrm>
            <a:off x="2857680" y="4500720"/>
            <a:ext cx="354456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5400" spc="-1" strike="noStrike">
                <a:solidFill>
                  <a:srgbClr val="2f5897"/>
                </a:solidFill>
                <a:latin typeface="Palatino Linotype"/>
              </a:rPr>
              <a:t>Решење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3" name="Content Placeholder 3" descr="uvod povrsina paralelograma_29.png"/>
          <p:cNvPicPr/>
          <p:nvPr/>
        </p:nvPicPr>
        <p:blipFill>
          <a:blip r:embed="rId1"/>
          <a:stretch/>
        </p:blipFill>
        <p:spPr>
          <a:xfrm>
            <a:off x="3643200" y="2143080"/>
            <a:ext cx="1785960" cy="3521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uvod povrsina paralelograma_221.png"/>
          <p:cNvPicPr/>
          <p:nvPr/>
        </p:nvPicPr>
        <p:blipFill>
          <a:blip r:embed="rId2"/>
          <a:stretch/>
        </p:blipFill>
        <p:spPr>
          <a:xfrm>
            <a:off x="1071720" y="2286000"/>
            <a:ext cx="1785960" cy="2589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uvod povrsina paralelograma_222.png"/>
          <p:cNvPicPr/>
          <p:nvPr/>
        </p:nvPicPr>
        <p:blipFill>
          <a:blip r:embed="rId3"/>
          <a:stretch/>
        </p:blipFill>
        <p:spPr>
          <a:xfrm>
            <a:off x="6350040" y="2357280"/>
            <a:ext cx="15080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5400" spc="-1" strike="noStrike" u="sng">
                <a:solidFill>
                  <a:srgbClr val="2f5897"/>
                </a:solidFill>
                <a:uFillTx/>
                <a:latin typeface="Palatino Linotype"/>
              </a:rPr>
              <a:t>Проблем 3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2000160"/>
            <a:ext cx="822960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Како одредити површину произвољног паралелограма? Који подаци су нам потребни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Picture 6" descr="paralelogram_11.png"/>
          <p:cNvPicPr/>
          <p:nvPr/>
        </p:nvPicPr>
        <p:blipFill>
          <a:blip r:embed="rId1"/>
          <a:stretch/>
        </p:blipFill>
        <p:spPr>
          <a:xfrm>
            <a:off x="1357200" y="3246480"/>
            <a:ext cx="62341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8:38:00Z</dcterms:created>
  <dc:creator>Nebojsa</dc:creator>
  <dc:description/>
  <dc:language>en-US</dc:language>
  <cp:lastModifiedBy>Corporate Edition</cp:lastModifiedBy>
  <dcterms:modified xsi:type="dcterms:W3CDTF">2012-01-16T21:40:26Z</dcterms:modified>
  <cp:revision>56</cp:revision>
  <dc:subject/>
  <dc:title>PowerPoint Presentation</dc:title>
</cp:coreProperties>
</file>